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34EE8-E46F-49FE-A890-70D1F0A0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9922-0E6A-4B34-A17A-DB901CF8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66BF-626D-4E48-B73B-B10E74A6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958B-33BC-40C0-875A-B8090689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5B00-1858-4199-AF61-30669663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4A56-B2F2-475A-BF3E-96EE0EBE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1F31-59D3-442F-9321-19C77E58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A7C4-AAAC-450A-8FE0-3FC65062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C0FB-566F-4CF2-BD11-F5611329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2044-0EBE-48BE-90BA-82112A05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F590-8CDC-4F07-9D43-38E2C862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BC6E-6D3B-4FE6-BD73-42B041F6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6881-7E08-47A0-BB0B-626DA8DA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7899-9DF0-4527-B4A9-B1899E3E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2DFC-BF87-46E5-9413-4EB2D7E8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D6DD-C933-4BBA-A82C-4C50DD18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DE62-194C-43DE-B94D-4673DD48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A983-385D-4BF8-B741-E48335AD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122B-5E6B-47ED-86EE-226EB12C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B9BC-374B-4A39-9AEE-63E0550E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2294-6964-405B-BE57-74C82E48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76B5-E91E-43A2-B397-47B3D12F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48B8-DDBB-4A5B-AA20-B92A2C72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C326-5CEB-449B-839B-AE107DE8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285D-D68E-4F84-9677-148F4B6D3E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A350-9D5B-42A1-A32E-EF1D5E2494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dding Tex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57913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1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1" y="20200"/>
                </a:lnTo>
                <a:lnTo>
                  <a:pt x="66091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1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p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914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gns of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57150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46400" y="91440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gns of Winter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6:32:01Z</dcterms:created>
  <dc:creator>jnatale</dc:creator>
  <dc:description/>
  <dc:language>en-US</dc:language>
  <cp:lastModifiedBy>jnatale</cp:lastModifiedBy>
  <dcterms:modified xsi:type="dcterms:W3CDTF">2009-02-19T16:41:50Z</dcterms:modified>
  <cp:revision>2</cp:revision>
  <dc:subject/>
  <dc:title>Adding Text</dc:title>
</cp:coreProperties>
</file>